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280360" y="6369120"/>
            <a:ext cx="719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3698-B07C-42C0-9E92-3C5C3BCC88F8}" type="slidenum">
              <a:rPr b="0" lang="ru-RU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6"/>
          <p:cNvSpPr/>
          <p:nvPr/>
        </p:nvSpPr>
        <p:spPr>
          <a:xfrm>
            <a:off x="458640" y="6554880"/>
            <a:ext cx="1873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58585"/>
                </a:solidFill>
                <a:latin typeface="Arial"/>
              </a:rPr>
              <a:t>ООО «РГС-Медицина», 2017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6"/>
          <p:cNvSpPr/>
          <p:nvPr/>
        </p:nvSpPr>
        <p:spPr>
          <a:xfrm>
            <a:off x="8280360" y="6369120"/>
            <a:ext cx="719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DD67-20B8-4116-B735-EFAE6520DF94}" type="slidenum">
              <a:rPr b="0" lang="ru-RU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3"/>
          <a:stretch/>
        </p:blipFill>
        <p:spPr>
          <a:xfrm>
            <a:off x="531720" y="538200"/>
            <a:ext cx="4172040" cy="587160"/>
          </a:xfrm>
          <a:prstGeom prst="rect">
            <a:avLst/>
          </a:prstGeom>
          <a:ln w="0">
            <a:noFill/>
          </a:ln>
        </p:spPr>
      </p:pic>
      <p:sp>
        <p:nvSpPr>
          <p:cNvPr id="41" name="Прямоугольник 16"/>
          <p:cNvSpPr/>
          <p:nvPr/>
        </p:nvSpPr>
        <p:spPr>
          <a:xfrm>
            <a:off x="458640" y="6554880"/>
            <a:ext cx="1873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58585"/>
                </a:solidFill>
                <a:latin typeface="Arial"/>
              </a:rPr>
              <a:t>ООО «РГС-Медицина», 2017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8280360" y="6369120"/>
            <a:ext cx="719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898F-48D9-4196-A01A-46FE24B1F8FF}" type="slidenum">
              <a:rPr b="0" lang="ru-RU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512640" y="1751040"/>
            <a:ext cx="8120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712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6"/>
          <p:cNvSpPr/>
          <p:nvPr/>
        </p:nvSpPr>
        <p:spPr>
          <a:xfrm>
            <a:off x="458640" y="6554880"/>
            <a:ext cx="1873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58585"/>
                </a:solidFill>
                <a:latin typeface="Arial"/>
              </a:rPr>
              <a:t>ООО «РГС-Медицина», 2017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799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708120" indent="-271440">
              <a:spcBef>
                <a:spcPts val="349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lvl="2" marL="1090440" indent="-215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525680" indent="-2160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962000" indent="-21564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962000" indent="-21564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962000" indent="-21564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0"/>
          <p:cNvSpPr/>
          <p:nvPr/>
        </p:nvSpPr>
        <p:spPr>
          <a:xfrm>
            <a:off x="665280" y="2687760"/>
            <a:ext cx="59385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74640" y="2030400"/>
            <a:ext cx="744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e0918"/>
                </a:solidFill>
                <a:latin typeface="Arial"/>
              </a:rPr>
              <a:t>Страховые представители 3 уровня . Прак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47040" y="4264200"/>
            <a:ext cx="6615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енеральный директор ООО «РГС-Медицин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ришина Н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меститель Генерального директора ООО «РГС-Медицин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ретьякова Е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5.06.2018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60020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355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зация информационного сопровождения застрахованных лиц, подлежащих диспансерному наблюдению (ДН), возможна при получении страховыми представителями 3 уровня соответствующих сведений о целевых контингентах лиц.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marL="444600" indent="-355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marL="444600" indent="-355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e0918"/>
                </a:solidFill>
                <a:latin typeface="Arial"/>
              </a:rPr>
              <a:t>Источники информации о лицах, подлежащих </a:t>
            </a:r>
            <a:br>
              <a:rPr sz="2100"/>
            </a:br>
            <a:r>
              <a:rPr b="1" lang="ru-RU" sz="2100" spc="-1" strike="noStrike">
                <a:solidFill>
                  <a:srgbClr val="9e0918"/>
                </a:solidFill>
                <a:latin typeface="Arial"/>
              </a:rPr>
              <a:t>диспансерному наблюдению</a:t>
            </a:r>
            <a:endParaRPr b="1" lang="en-US" sz="2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2" name="Объект 2"/>
          <p:cNvSpPr/>
          <p:nvPr/>
        </p:nvSpPr>
        <p:spPr>
          <a:xfrm>
            <a:off x="588960" y="4282920"/>
            <a:ext cx="3548160" cy="1920960"/>
          </a:xfrm>
          <a:prstGeom prst="rect">
            <a:avLst/>
          </a:prstGeom>
          <a:solidFill>
            <a:srgbClr val="e6d4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355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естры счетов, формируемые медицинскими организация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результатам проведения  диспансер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казания специализированной помощи в стационар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бъект 2"/>
          <p:cNvSpPr/>
          <p:nvPr/>
        </p:nvSpPr>
        <p:spPr>
          <a:xfrm>
            <a:off x="1974960" y="2535120"/>
            <a:ext cx="4884480" cy="627120"/>
          </a:xfrm>
          <a:prstGeom prst="rect">
            <a:avLst/>
          </a:prstGeom>
          <a:noFill/>
          <a:ln w="9360">
            <a:solidFill>
              <a:srgbClr val="9e09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355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источники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бъект 2"/>
          <p:cNvSpPr/>
          <p:nvPr/>
        </p:nvSpPr>
        <p:spPr>
          <a:xfrm>
            <a:off x="4759200" y="4334040"/>
            <a:ext cx="3640320" cy="1812600"/>
          </a:xfrm>
          <a:prstGeom prst="rect">
            <a:avLst/>
          </a:prstGeom>
          <a:solidFill>
            <a:srgbClr val="e6d4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355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ски лиц, подлежащих ДН, формируемые медицинскими организациями, передаваемые в СМО через единый информационный ресурс на базе ТФОМ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 по типу списков для  информирования  о диспансериз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ыгнутая влево стрелка 7"/>
          <p:cNvSpPr/>
          <p:nvPr/>
        </p:nvSpPr>
        <p:spPr>
          <a:xfrm>
            <a:off x="801720" y="3030480"/>
            <a:ext cx="731880" cy="12175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7520"/>
              <a:gd name="textAreaBottom" fmla="*/ 890280 h 121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4" stAng="-5400000" swAng="-5400000"/>
                <a:lnTo>
                  <a:pt x="0" y="11612"/>
                </a:lnTo>
                <a:arcTo wR="21600" hR="8364" stAng="10800000" swAng="-3378284"/>
                <a:lnTo>
                  <a:pt x="16200" y="21334"/>
                </a:lnTo>
                <a:lnTo>
                  <a:pt x="21600" y="18352"/>
                </a:lnTo>
                <a:lnTo>
                  <a:pt x="16200" y="14838"/>
                </a:lnTo>
                <a:lnTo>
                  <a:pt x="16200" y="16462"/>
                </a:lnTo>
                <a:arcTo wR="21600" hR="8364" stAng="7421716" swAng="3115316"/>
                <a:lnTo>
                  <a:pt x="411" y="9988"/>
                </a:lnTo>
                <a:arcTo wR="21600" hR="8364" stAng="-10537032" swAng="5137032"/>
                <a:close/>
              </a:path>
              <a:path fill="darkenLess" w="21600" h="21600">
                <a:moveTo>
                  <a:pt x="21600" y="0"/>
                </a:moveTo>
                <a:arcTo wR="21600" hR="8364" stAng="-5400000" swAng="-5400000"/>
                <a:lnTo>
                  <a:pt x="0" y="8364"/>
                </a:lnTo>
                <a:arcTo wR="21600" hR="8364" stAng="10800000" swAng="-262968"/>
                <a:lnTo>
                  <a:pt x="411" y="9988"/>
                </a:lnTo>
                <a:arcTo wR="21600" hR="8364" stAng="-10537032" swAng="5137032"/>
                <a:close/>
              </a:path>
            </a:pathLst>
          </a:custGeom>
          <a:solidFill>
            <a:srgbClr val="9e091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ыгнутая вправо стрелка 8"/>
          <p:cNvSpPr/>
          <p:nvPr/>
        </p:nvSpPr>
        <p:spPr>
          <a:xfrm>
            <a:off x="7064280" y="301932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4" stAng="-5400000" swAng="5400000"/>
                <a:lnTo>
                  <a:pt x="21600" y="11612"/>
                </a:lnTo>
                <a:arcTo wR="21600" hR="8364" stAng="0" swAng="3378284"/>
                <a:lnTo>
                  <a:pt x="5400" y="21334"/>
                </a:lnTo>
                <a:lnTo>
                  <a:pt x="0" y="18352"/>
                </a:lnTo>
                <a:lnTo>
                  <a:pt x="5400" y="14838"/>
                </a:lnTo>
                <a:lnTo>
                  <a:pt x="5400" y="16462"/>
                </a:lnTo>
                <a:arcTo wR="21600" hR="8364" stAng="3378284" swAng="-3115316"/>
                <a:lnTo>
                  <a:pt x="21189" y="9988"/>
                </a:lnTo>
                <a:arcTo wR="21600" hR="8364" stAng="-262968" swAng="-5137032"/>
                <a:close/>
              </a:path>
              <a:path fill="darkenLess" w="21600" h="21600">
                <a:moveTo>
                  <a:pt x="0" y="0"/>
                </a:moveTo>
                <a:arcTo wR="21600" hR="8364" stAng="-5400000" swAng="5400000"/>
                <a:lnTo>
                  <a:pt x="21600" y="11612"/>
                </a:lnTo>
                <a:arcTo wR="21600" hR="8364" stAng="0" swAng="-262968"/>
                <a:lnTo>
                  <a:pt x="21189" y="9988"/>
                </a:lnTo>
                <a:arcTo wR="21600" hR="8364" stAng="-262968" swAng="-5137032"/>
                <a:close/>
              </a:path>
            </a:pathLst>
          </a:custGeom>
          <a:solidFill>
            <a:srgbClr val="9e091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557280" y="29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e0918"/>
                </a:solidFill>
                <a:latin typeface="Arial"/>
              </a:rPr>
              <a:t>Проблемные зоны в реестрах счетов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25520" y="1612800"/>
            <a:ext cx="84312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9e0918"/>
              </a:buClr>
              <a:buFont typeface="Arial"/>
              <a:buAutoNum type="arabi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e0918"/>
                </a:solidFill>
                <a:latin typeface="Arial"/>
              </a:rPr>
              <a:t>Приказ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9e0918"/>
                </a:solidFill>
                <a:latin typeface="Arial"/>
              </a:rPr>
              <a:t>ФОМС от 23.03.2018г. №54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тверждены новые требования к форматам реестров-счетов,</a:t>
            </a:r>
            <a:r>
              <a:rPr b="1" lang="ru-RU" sz="1400" spc="-1" strike="noStrike">
                <a:solidFill>
                  <a:srgbClr val="9e0918"/>
                </a:solidFill>
                <a:latin typeface="Arial"/>
              </a:rPr>
              <a:t> в том числе  стало обязательным заполнение в реестрах сче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ля «Порядок диспансерного наблюдения»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9e0918"/>
                </a:solidFill>
                <a:latin typeface="Arial"/>
              </a:rPr>
              <a:t> 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усматривающего сведения  о взятии, снятии или нахождении пациента на диспансерном наблюдении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 настоящее время  в регионах деятельности компани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все субъекты РФ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шли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ые форматы реестров счетов, в регионах, где указанное поле пока не заполняется 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можно отслеживание СП-3 пациентов, взятых, состоящих или снятых с диспансер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блю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355680">
              <a:lnSpc>
                <a:spcPct val="100000"/>
              </a:lnSpc>
              <a:spcBef>
                <a:spcPts val="349"/>
              </a:spcBef>
              <a:buClr>
                <a:srgbClr val="666666"/>
              </a:buClr>
              <a:buFont typeface="Arial"/>
              <a:buAutoNum type="arabi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яде регионов выборка пациентов с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диагнозами, подлежащими Д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 результатам диспансеризации, для последующего информационного сопровождения затруднительна в связи с тем, что на  этих территориях  Порядками информационного взаимодействия в системе ОМС предусмотрено заполнение поля «Диагноз» по результатам диспансеризации </a:t>
            </a:r>
            <a:r>
              <a:rPr b="1" lang="ru-RU" sz="1400" spc="-1" strike="noStrike" u="sng">
                <a:solidFill>
                  <a:srgbClr val="9e0918"/>
                </a:solidFill>
                <a:uFillTx/>
                <a:latin typeface="Arial"/>
              </a:rPr>
              <a:t>во всех случаях</a:t>
            </a:r>
            <a:r>
              <a:rPr b="0" lang="ru-RU" sz="1400" spc="-1" strike="noStrike">
                <a:solidFill>
                  <a:srgbClr val="9e0918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диагноз группы 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согласно МКБ-10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0.8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угие общие осмот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924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0918"/>
                </a:solidFill>
                <a:latin typeface="Arial"/>
              </a:rPr>
              <a:t>Перечень субъектов РФ, не перешедших до настоящего времени на форматы, установленные приказом ФОМС №54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98400" y="1612800"/>
          <a:ext cx="3606840" cy="3706920"/>
        </p:xfrm>
        <a:graphic>
          <a:graphicData uri="http://schemas.openxmlformats.org/drawingml/2006/table">
            <a:tbl>
              <a:tblPr/>
              <a:tblGrid>
                <a:gridCol w="567000"/>
                <a:gridCol w="3039840"/>
              </a:tblGrid>
              <a:tr h="444600">
                <a:tc>
                  <a:txBody>
                    <a:bodyPr lIns="90000" rIns="90000" anchor="ctr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ангель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тай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А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МА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нингра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Ты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рдино-Балкар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952880" y="1701720"/>
          <a:ext cx="3568680" cy="3305160"/>
        </p:xfrm>
        <a:graphic>
          <a:graphicData uri="http://schemas.openxmlformats.org/drawingml/2006/table">
            <a:tbl>
              <a:tblPr/>
              <a:tblGrid>
                <a:gridCol w="439920"/>
                <a:gridCol w="3128760"/>
              </a:tblGrid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зан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Северная Осетия-Ал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ль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мурт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ян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баров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Саха-Яку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25440" indent="-325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25440" indent="-32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осла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553"/>
          <p:cNvSpPr/>
          <p:nvPr/>
        </p:nvSpPr>
        <p:spPr>
          <a:xfrm>
            <a:off x="271440" y="5410080"/>
            <a:ext cx="8685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 из 42-х субъектов РФ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7,6%)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территории которы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ОО «РГС-Медицина» осуществляет деятельность по ОМС, по данным проведенного мониторинга до настоящего времени не исполняют требований приказа ФОМС от 23.03.2018г. №54 «О внесении изменений в приказ Федерального фонда обязательного медицинского страхования от 7 апреля 2011 г. N 79» в част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ЯЗАТЕЛЬН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полнения поля 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57280" y="29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e0918"/>
                </a:solidFill>
                <a:latin typeface="Arial"/>
              </a:rPr>
              <a:t>Работа с гражданами для получения согласия на индивидуальное сопровожд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25520" y="1612800"/>
            <a:ext cx="8431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2018 г компанией начата работа по подписанию застрахованными лицами согласий на индивидуальное информационное сопрово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хват граждан с целью получени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глас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ез которого индивидуальное  работа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циентов по заболеванию  не возможна, не достаточен в силу малого «входящего» потока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ВП СМО, поступающими отказами граждан в получении такой информации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959120" y="3633840"/>
          <a:ext cx="5043240" cy="1814400"/>
        </p:xfrm>
        <a:graphic>
          <a:graphicData uri="http://schemas.openxmlformats.org/drawingml/2006/table">
            <a:tbl>
              <a:tblPr/>
              <a:tblGrid>
                <a:gridCol w="1611000"/>
                <a:gridCol w="1227240"/>
                <a:gridCol w="1228680"/>
                <a:gridCol w="976320"/>
              </a:tblGrid>
              <a:tr h="1509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71560"/>
                          <a:tab algn="l" pos="1743120"/>
                          <a:tab algn="l" pos="2614680"/>
                          <a:tab algn="l" pos="3486240"/>
                          <a:tab algn="l" pos="4357800"/>
                          <a:tab algn="l" pos="5229360"/>
                          <a:tab algn="l" pos="6100920"/>
                          <a:tab algn="l" pos="6972480"/>
                          <a:tab algn="l" pos="7843680"/>
                          <a:tab algn="l" pos="8715240"/>
                          <a:tab algn="l" pos="9586800"/>
                          <a:tab algn="l" pos="10458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лиц, которым  было предложено подписать согласие на информирование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71560"/>
                          <a:tab algn="l" pos="1743120"/>
                          <a:tab algn="l" pos="2614680"/>
                          <a:tab algn="l" pos="3486240"/>
                          <a:tab algn="l" pos="4357800"/>
                          <a:tab algn="l" pos="5229360"/>
                          <a:tab algn="l" pos="6100920"/>
                          <a:tab algn="l" pos="6972480"/>
                          <a:tab algn="l" pos="7843680"/>
                          <a:tab algn="l" pos="8715240"/>
                          <a:tab algn="l" pos="9586800"/>
                          <a:tab algn="l" pos="10458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о отказов от подписания согла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71560"/>
                          <a:tab algn="l" pos="1743120"/>
                          <a:tab algn="l" pos="2614680"/>
                          <a:tab algn="l" pos="3486240"/>
                          <a:tab algn="l" pos="4357800"/>
                          <a:tab algn="l" pos="5229360"/>
                          <a:tab algn="l" pos="6100920"/>
                          <a:tab algn="l" pos="6972480"/>
                          <a:tab algn="l" pos="7843680"/>
                          <a:tab algn="l" pos="8715240"/>
                          <a:tab algn="l" pos="9586800"/>
                          <a:tab algn="l" pos="10458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отказавшихся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71560"/>
                          <a:tab algn="l" pos="1743120"/>
                          <a:tab algn="l" pos="2614680"/>
                          <a:tab algn="l" pos="3486240"/>
                          <a:tab algn="l" pos="4357800"/>
                          <a:tab algn="l" pos="5229360"/>
                          <a:tab algn="l" pos="6100920"/>
                          <a:tab algn="l" pos="6972480"/>
                          <a:tab algn="l" pos="7843680"/>
                          <a:tab algn="l" pos="8715240"/>
                          <a:tab algn="l" pos="9586800"/>
                          <a:tab algn="l" pos="10458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71560"/>
                          <a:tab algn="l" pos="1743120"/>
                          <a:tab algn="l" pos="2614680"/>
                          <a:tab algn="l" pos="3486240"/>
                          <a:tab algn="l" pos="4357800"/>
                          <a:tab algn="l" pos="5229360"/>
                          <a:tab algn="l" pos="6100920"/>
                          <a:tab algn="l" pos="6972480"/>
                          <a:tab algn="l" pos="7843680"/>
                          <a:tab algn="l" pos="8715240"/>
                          <a:tab algn="l" pos="9586800"/>
                          <a:tab algn="l" pos="10458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01 7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71560"/>
                          <a:tab algn="l" pos="1743120"/>
                          <a:tab algn="l" pos="2614680"/>
                          <a:tab algn="l" pos="3486240"/>
                          <a:tab algn="l" pos="4357800"/>
                          <a:tab algn="l" pos="5229360"/>
                          <a:tab algn="l" pos="6100920"/>
                          <a:tab algn="l" pos="6972480"/>
                          <a:tab algn="l" pos="7843680"/>
                          <a:tab algn="l" pos="8715240"/>
                          <a:tab algn="l" pos="9586800"/>
                          <a:tab algn="l" pos="10458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71560"/>
                          <a:tab algn="l" pos="1743120"/>
                          <a:tab algn="l" pos="2614680"/>
                          <a:tab algn="l" pos="3486240"/>
                          <a:tab algn="l" pos="4357800"/>
                          <a:tab algn="l" pos="5229360"/>
                          <a:tab algn="l" pos="6100920"/>
                          <a:tab algn="l" pos="6972480"/>
                          <a:tab algn="l" pos="7843680"/>
                          <a:tab algn="l" pos="8715240"/>
                          <a:tab algn="l" pos="9586800"/>
                          <a:tab algn="l" pos="10458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71560"/>
                          <a:tab algn="l" pos="1743120"/>
                          <a:tab algn="l" pos="2614680"/>
                          <a:tab algn="l" pos="3486240"/>
                          <a:tab algn="l" pos="4357800"/>
                          <a:tab algn="l" pos="5229360"/>
                          <a:tab algn="l" pos="6100920"/>
                          <a:tab algn="l" pos="6972480"/>
                          <a:tab algn="l" pos="7843680"/>
                          <a:tab algn="l" pos="8715240"/>
                          <a:tab algn="l" pos="9586800"/>
                          <a:tab algn="l" pos="10458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87 2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0918"/>
                </a:solidFill>
                <a:latin typeface="Arial"/>
              </a:rPr>
              <a:t>Преемственность в оказании медицинской помощи – необходимое условие улучшения показателей здоровья населения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6080" y="1536480"/>
            <a:ext cx="873756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ятие на диспансерный учет граждан в настоящее время может быть осуществлено: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факту прохождения гражданами диспансеризации/ профилактического медосмотра;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самостоятельном обращении пациента за медицинской помощью в амбулаторно-поликлиническое учреждение;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иски из стациона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 впервые диагностированном или уточненном заболевании, включенном в Перечень, утв. приказом Минздрава России от 21.12.2012г. №1344 «Об утверждении Порядка проведения диспансерного наблюдения».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6666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254160" y="4775040"/>
            <a:ext cx="1623960" cy="1704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2e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037960" y="4692600"/>
            <a:ext cx="9291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9e0918"/>
                </a:solidFill>
                <a:latin typeface="Arial"/>
              </a:rPr>
              <a:t>Выписные</a:t>
            </a:r>
            <a:r>
              <a:rPr b="1" i="1" lang="ru-RU" sz="1400" spc="-1" strike="noStrike">
                <a:solidFill>
                  <a:srgbClr val="9e0918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9e0918"/>
                </a:solidFill>
                <a:latin typeface="Arial"/>
              </a:rPr>
              <a:t>эпикриз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9e0918"/>
                </a:solidFill>
                <a:latin typeface="Arial"/>
              </a:rPr>
              <a:t>по канала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e0918"/>
                </a:solidFill>
                <a:latin typeface="Arial"/>
              </a:rPr>
              <a:t>VIP-NET</a:t>
            </a:r>
            <a:r>
              <a:rPr b="1" lang="ru-RU" sz="1000" spc="-1" strike="noStrike">
                <a:solidFill>
                  <a:srgbClr val="9e0918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65240" y="5203800"/>
            <a:ext cx="17668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дицински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рганизации (КС) – Сосудистые Центры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 flipV="1">
            <a:off x="1981080" y="5536800"/>
            <a:ext cx="118116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3276720" y="4978440"/>
            <a:ext cx="1623960" cy="1222200"/>
          </a:xfrm>
          <a:prstGeom prst="rightArrow">
            <a:avLst>
              <a:gd name="adj1" fmla="val 50000"/>
              <a:gd name="adj2" fmla="val 33218"/>
            </a:avLst>
          </a:prstGeom>
          <a:solidFill>
            <a:srgbClr val="e0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842000" y="4637160"/>
            <a:ext cx="168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9e0918"/>
                </a:solidFill>
                <a:latin typeface="Arial"/>
              </a:rPr>
              <a:t>Разделенные по МО списки пациентов, подлежащих взятию на ДУ</a:t>
            </a:r>
            <a:r>
              <a:rPr b="1" lang="ru-RU" sz="1000" spc="-1" strike="noStrike">
                <a:solidFill>
                  <a:srgbClr val="9e0918"/>
                </a:solidFill>
                <a:latin typeface="Arial"/>
              </a:rPr>
              <a:t> </a:t>
            </a:r>
            <a:r>
              <a:rPr b="1" i="1" lang="ru-RU" sz="1000" spc="-1" strike="noStrike">
                <a:solidFill>
                  <a:srgbClr val="9e0918"/>
                </a:solidFill>
                <a:latin typeface="Arial"/>
              </a:rPr>
              <a:t>по каналам </a:t>
            </a:r>
            <a:r>
              <a:rPr b="1" i="1" lang="en-US" sz="1000" spc="-1" strike="noStrike">
                <a:solidFill>
                  <a:srgbClr val="9e0918"/>
                </a:solidFill>
                <a:latin typeface="Arial"/>
              </a:rPr>
              <a:t>VIP-NET</a:t>
            </a:r>
            <a:r>
              <a:rPr b="1" i="1" lang="ru-RU" sz="1000" spc="-1" strike="noStrike">
                <a:solidFill>
                  <a:srgbClr val="9e0918"/>
                </a:solidFill>
                <a:latin typeface="Arial"/>
              </a:rPr>
              <a:t>; выписные эпикриз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V="1">
            <a:off x="5086440" y="5547960"/>
            <a:ext cx="217800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7302600" y="4724280"/>
            <a:ext cx="1625400" cy="533520"/>
          </a:xfrm>
          <a:prstGeom prst="rect">
            <a:avLst/>
          </a:prstGeom>
          <a:solidFill>
            <a:srgbClr val="fdf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О амбулаторно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ликлинического тип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7315200" y="5397480"/>
            <a:ext cx="1650960" cy="533520"/>
          </a:xfrm>
          <a:prstGeom prst="rect">
            <a:avLst/>
          </a:prstGeom>
          <a:solidFill>
            <a:srgbClr val="fdf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О амбулаторно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ликлинического тип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7340760" y="6033960"/>
            <a:ext cx="1638000" cy="533520"/>
          </a:xfrm>
          <a:prstGeom prst="rect">
            <a:avLst/>
          </a:prstGeom>
          <a:solidFill>
            <a:srgbClr val="fdf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О амбулаторно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ликлинического тип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6838920" y="4822560"/>
            <a:ext cx="4507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 flipV="1">
            <a:off x="6838920" y="6287760"/>
            <a:ext cx="45720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289080" y="3413160"/>
            <a:ext cx="492120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ОО «РГС-Медицина» проводится апробация механизма повышения преемственности между этапом оказания специализированной медицинской помощи пациентам 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условиях круглосуточного наблюдения (Сосудистые Центры) и амбулаторно-поликлиническим этапом в одном из субъектов РФ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0"/>
          <p:cNvSpPr/>
          <p:nvPr/>
        </p:nvSpPr>
        <p:spPr>
          <a:xfrm>
            <a:off x="5435640" y="3187800"/>
            <a:ext cx="3911400" cy="13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0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9e0918"/>
                </a:solidFill>
                <a:latin typeface="Arial"/>
              </a:rPr>
              <a:t>тематические экспертиз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9e0918"/>
                </a:solidFill>
                <a:latin typeface="Arial"/>
              </a:rPr>
              <a:t>в целях контроля постановк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9e0918"/>
                </a:solidFill>
                <a:latin typeface="Arial"/>
              </a:rPr>
              <a:t>направленных пациентов на ДУ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9e0918"/>
                </a:solidFill>
                <a:latin typeface="Arial"/>
              </a:rPr>
              <a:t>информирование пациент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9e0918"/>
                </a:solidFill>
                <a:latin typeface="Arial"/>
              </a:rPr>
              <a:t>о необходимости наблюде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9e0918"/>
                </a:solidFill>
                <a:latin typeface="Arial"/>
              </a:rPr>
              <a:t>в АПУ и т.д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2"/>
          <p:cNvSpPr/>
          <p:nvPr/>
        </p:nvSpPr>
        <p:spPr>
          <a:xfrm>
            <a:off x="6800760" y="4835520"/>
            <a:ext cx="12960" cy="14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0918"/>
                </a:solidFill>
                <a:latin typeface="Arial"/>
              </a:rPr>
              <a:t>Предложения: необходимые изменения </a:t>
            </a:r>
            <a:br>
              <a:rPr sz="2400"/>
            </a:br>
            <a:r>
              <a:rPr b="1" lang="ru-RU" sz="2400" spc="-1" strike="noStrike">
                <a:solidFill>
                  <a:srgbClr val="9e0918"/>
                </a:solidFill>
                <a:latin typeface="Arial"/>
              </a:rPr>
              <a:t>нормативных актов Минздрава России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2400" y="1712880"/>
            <a:ext cx="82357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чень заболеваний (состояний), при наличии которых устанавливается группа диспансерного наблюдения (ДН) врачом-терапевтом, утв. приказом Минздрава России №1344 (Порядок проведения ДН), необходимо дополнить сведениями о кодах и/или диапазонах кодов МКБ-Х в привязке к наименованию заболеваний, по поводу которых проводится ДН;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  Порядок проведения ДН не содержит: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исания конкретных алгоритмов, необходимого минимума лабораторных и инструментальных исследований при осуществлении ДН как врачом-терапевтом, так и врачами-консультантами;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ицинских показаний для проведения профилактических, лечебных и реабилитационных мероприятий по тем или иным заболеваниям, в том числе для направления пациентов в МО, оказывающие специализированную (высокотехнологичную) медицинскую помощь, на санаторно-курортное лечение и т.д., - что также требует дополнения.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Необходимо определить Клинические рекомендации ассоциаций врачей России, рекомендованные для использования СМО при тематических экспертизах случаев оказания медицинской помощи лицам, подлежащим диспансерному наблюдению,. 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36:36Z</dcterms:created>
  <dc:creator>Katya Rodionova</dc:creator>
  <dc:description/>
  <dc:language>en-US</dc:language>
  <cp:lastModifiedBy>Ковалева Наталья Николаевна</cp:lastModifiedBy>
  <cp:lastPrinted>2018-06-15T07:26:04Z</cp:lastPrinted>
  <dcterms:modified xsi:type="dcterms:W3CDTF">2018-06-15T07:26:12Z</dcterms:modified>
  <cp:revision>706</cp:revision>
  <dc:subject/>
  <dc:title>Slide 1</dc:title>
</cp:coreProperties>
</file>